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D71-02D8-48F0-A161-0248C368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694-CBF9-4507-B58C-54DF88F6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424-C44D-43C6-84B1-D8C329F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5E8-C3C4-414C-B8DB-A823A863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8FA-7CAD-4E08-B98C-8F2E7E2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9D1-4C96-478B-B9B7-90AD5F8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27C-C989-4213-8A0C-B82D2D4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7CD-A6E8-470E-BB83-78E9023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AA6-C9E1-4EB4-BC9B-04838FC1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422-1167-4508-B3A2-2737FDD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76D-EFE5-4167-8528-582458A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912-9719-4D8E-81C9-C65B3D0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0CBA-A5E8-4F4C-9B1A-5EB589166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11680" y="119160"/>
            <a:ext cx="508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ابتعد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نتظرت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هما خطئ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ـقبلن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ـا ابـن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ـب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30840" y="119160"/>
            <a:ext cx="508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ك رب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بع السم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يشف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الجر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يدي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يرت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87040" y="361800"/>
            <a:ext cx="5153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ز حيات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ـدت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عمق ذات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ـمـ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بعـتَ فـ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مـال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أنت أب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3-01-21T11:13:52Z</dcterms:modified>
  <cp:revision>6</cp:revision>
  <dc:subject/>
  <dc:title>PowerPoint Presentation</dc:title>
</cp:coreProperties>
</file>